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629-889F-4484-BF26-870BCD9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662-E322-49CE-B343-4BC9B36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A01-FF7F-4410-B616-9EA16C59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35B-DEDE-40F2-A0BB-3F10C06A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30C-ADA9-4CC5-A7AE-1347823D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B80-DDD2-48F2-B98D-4BEA70F7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69B-BAAA-4633-98B9-7F584F78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954-41F7-4210-92DF-07F94705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2DF-D928-4C0F-9FB4-4BDD8FED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0FA-9C15-4465-9580-CE140BB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E87-23A9-42C0-899D-7954624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C9F-378E-4CF1-A2B1-DBCECDD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7DC-283D-409B-9669-C9F9B5728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240" y="41911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21 et 22 (enveloppes 1 e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5760" y="172080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Charles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2133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560" y="8839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38 (envelopp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64008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Alexandre FERGU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6080" y="6858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5800" y="7620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5400" y="41911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18 (enveloppe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5400" y="172080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lle Anne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1337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88390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9 (enveloppe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8040" y="640080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lle Sophie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2400" y="6858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21:40Z</dcterms:created>
  <dc:creator>HP, client autorisé</dc:creator>
  <dc:description/>
  <dc:language>en-US</dc:language>
  <cp:lastModifiedBy>Phil</cp:lastModifiedBy>
  <dcterms:modified xsi:type="dcterms:W3CDTF">2007-03-24T12:33:52Z</dcterms:modified>
  <cp:revision>14</cp:revision>
  <dc:subject/>
  <dc:title>Présentation PowerPoint</dc:title>
</cp:coreProperties>
</file>